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28.xml.rels" ContentType="application/vnd.openxmlformats-package.relationships+xml"/>
  <Override PartName="/ppt/slides/_rels/slide95.xml.rels" ContentType="application/vnd.openxmlformats-package.relationships+xml"/>
  <Override PartName="/ppt/slides/_rels/slide128.xml.rels" ContentType="application/vnd.openxmlformats-package.relationships+xml"/>
  <Override PartName="/ppt/slides/_rels/slide27.xml.rels" ContentType="application/vnd.openxmlformats-package.relationships+xml"/>
  <Override PartName="/ppt/slides/_rels/slide118.xml.rels" ContentType="application/vnd.openxmlformats-package.relationships+xml"/>
  <Override PartName="/ppt/slides/_rels/slide85.xml.rels" ContentType="application/vnd.openxmlformats-package.relationships+xml"/>
  <Override PartName="/ppt/slides/_rels/slide15.xml.rels" ContentType="application/vnd.openxmlformats-package.relationships+xml"/>
  <Override PartName="/ppt/slides/_rels/slide130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2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110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.xml.rels" ContentType="application/vnd.openxmlformats-package.relationships+xml"/>
  <Override PartName="/ppt/slides/_rels/slide131.xml.rels" ContentType="application/vnd.openxmlformats-package.relationships+xml"/>
  <Override PartName="/ppt/slides/_rels/slide59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53.xml.rels" ContentType="application/vnd.openxmlformats-package.relationships+xml"/>
  <Override PartName="/ppt/slides/_rels/slide13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2.xml.rels" ContentType="application/vnd.openxmlformats-package.relationships+xml"/>
  <Override PartName="/ppt/slides/_rels/slide31.xml.rels" ContentType="application/vnd.openxmlformats-package.relationships+xml"/>
  <Override PartName="/ppt/slides/_rels/slide117.xml.rels" ContentType="application/vnd.openxmlformats-package.relationships+xml"/>
  <Override PartName="/ppt/slides/_rels/slide84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62.xml.rels" ContentType="application/vnd.openxmlformats-package.relationships+xml"/>
  <Override PartName="/ppt/slides/_rels/slide63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49.xml.rels" ContentType="application/vnd.openxmlformats-package.relationships+xml"/>
  <Override PartName="/ppt/slides/_rels/slide93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6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78.xml.rels" ContentType="application/vnd.openxmlformats-package.relationships+xml"/>
  <Override PartName="/ppt/slides/_rels/slide80.xml.rels" ContentType="application/vnd.openxmlformats-package.relationships+xml"/>
  <Override PartName="/ppt/slides/_rels/slide36.xml.rels" ContentType="application/vnd.openxmlformats-package.relationships+xml"/>
  <Override PartName="/ppt/slides/_rels/slide113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114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8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8.xml" ContentType="application/vnd.openxmlformats-officedocument.presentationml.slide+xml"/>
  <Override PartName="/ppt/slides/slide58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6.xml" ContentType="application/vnd.openxmlformats-officedocument.presentationml.slide+xml"/>
  <Override PartName="/ppt/slides/slide38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9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8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9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128.xml" ContentType="application/vnd.openxmlformats-officedocument.presentationml.slide+xml"/>
  <Override PartName="/ppt/slides/slide43.xml" ContentType="application/vnd.openxmlformats-officedocument.presentationml.slide+xml"/>
  <Override PartName="/ppt/slides/slide33.xml" ContentType="application/vnd.openxmlformats-officedocument.presentationml.slide+xml"/>
  <Override PartName="/ppt/slides/slide52.xml" ContentType="application/vnd.openxmlformats-officedocument.presentationml.slide+xml"/>
  <Override PartName="/ppt/slides/slide129.xml" ContentType="application/vnd.openxmlformats-officedocument.presentationml.slide+xml"/>
  <Override PartName="/ppt/slides/slide30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33.xml" ContentType="application/vnd.openxmlformats-officedocument.presentationml.slide+xml"/>
  <Override PartName="/ppt/slides/slide37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131.xml" ContentType="application/vnd.openxmlformats-officedocument.presentationml.slide+xml"/>
  <Override PartName="/ppt/slides/slide44.xml" ContentType="application/vnd.openxmlformats-officedocument.presentationml.slide+xml"/>
  <Override PartName="/ppt/slides/slide40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19.xml" ContentType="application/vnd.openxmlformats-officedocument.presentationml.slide+xml"/>
  <Override PartName="/ppt/slides/slide87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  <Override PartName="/ppt/slides/slide89.xml" ContentType="application/vnd.openxmlformats-officedocument.presentationml.slide+xml"/>
  <Override PartName="/ppt/slides/slide117.xml" ContentType="application/vnd.openxmlformats-officedocument.presentationml.slide+xml"/>
  <Override PartName="/ppt/slides/slide118.xml" ContentType="application/vnd.openxmlformats-officedocument.presentationml.slide+xml"/>
  <Override PartName="/ppt/slides/slide27.xml" ContentType="application/vnd.openxmlformats-officedocument.presentationml.slide+xml"/>
  <Override PartName="/ppt/slides/slide95.xml" ContentType="application/vnd.openxmlformats-officedocument.presentationml.slide+xml"/>
  <Override PartName="/ppt/slides/slide123.xml" ContentType="application/vnd.openxmlformats-officedocument.presentationml.slide+xml"/>
  <Override PartName="/ppt/slides/slide28.xml" ContentType="application/vnd.openxmlformats-officedocument.presentationml.slide+xml"/>
  <Override PartName="/ppt/slides/slide96.xml" ContentType="application/vnd.openxmlformats-officedocument.presentationml.slide+xml"/>
  <Override PartName="/ppt/slides/slide1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47CFF-2860-4444-8691-03E8EA5BB8B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E2394-9260-42F6-8D59-4689320AC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3E6B0-1770-40FE-B5D8-93330C5E6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0BB63-199C-40CF-B85C-CD295B0AEB5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83606-DF51-4546-8AA3-615AC4D4C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982F8-C332-48B3-B2A2-895B6323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45F87-16DE-4954-AF25-2BA3851C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D11E9-627C-4CB9-87DD-51EBD0133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7B25D-F3C6-499C-BE73-754EF4AB5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DAA55-10D9-48DC-9BAB-FC3230E02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D5D35-A095-4C4A-A434-0047036E5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B9206-021D-4C63-95D6-AA299172A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0AD5-E505-435F-A777-69C81CC26C2A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29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2360" y="2276640"/>
            <a:ext cx="71294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十二章 妇产科诊疗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及手术患者的护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164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活检就是子宫颈的活体组织检查，是自宫颈病变处或可疑部位取一小块或几块组织做病理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多用于宫颈可疑癌变或宫颈刮片有可疑的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活检是确诊宫颈癌最可靠的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新生儿出生后要少搬动，并给予维生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12m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肌内注射，预防颅内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较大产瘤、头皮损伤、头部血肿或颅内出血，应及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操作时间长，新生儿及产妇均用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1044720" y="2637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九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产 钳 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钳术是利用产钳作为牵引力或旋转力，以纠正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头方位、协助胎头下降及胎儿娩出的产科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第二产程延长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因特殊病史须缩短第二产程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因妊娠高血压综合征等原因导致胎儿窘迫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臀位、后出头须产钳助产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盆狭窄或头盆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膜未破，宫口未开全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死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流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正确放置产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两叶产钳位置适当扣合钳锁、靠拢钳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牵引产钳使胎头逐渐仰伸而娩出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当胎头双顶径牵出后卸下产钳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牵出胎体及娩出胎盘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检查软产道其后按层缝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正确掌握手术适应证及禁忌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明确胎位，检查产钳是否完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中注意观察产妇宫缩及胎心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后注意检查新生儿有无产伤等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252360" y="256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臀位牵引及臀位助产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486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臀位分娩时，胎儿全部由手法牵引娩出，称臀牵引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下肢及臀部自然娩出，仅在脐以上部分由手法牵引娩出，称臀位助产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经产妇单臀位和完全臀位，初产妇单臀位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体重小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500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心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产道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缩好，产程进展正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妇无并发症和合并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18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白带增多伴有腥臭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阴道不规则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绝经后阴道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接触性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炎症久治不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妇科检查发现宫颈质地硬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检中，宫颈涂片细胞学检查发现癌细胞及可疑癌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盆异常，如扁平骨盆、骨盆畸形、漏斗骨盆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过大，估计胎儿体重大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500g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口未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步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规消毒外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铺无菌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导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好后出头产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好新生儿窒息复苏抢救的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   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双侧阴部神经阻滞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方  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堵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堵至产妇向下屏气用力，手掌感到很大的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力时，行阴道检查，确诊宫口开全后，初产妇或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较紧的经产妇做会阴切开，准备接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宫口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胎儿粗隆间径已达坐骨棘以下，宫缩时术者放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手，娩出臀部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娩出胎肩及上肢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牵出胎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应充分考虑适应证，权衡利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主动讲解相关知识，使产妇能知情配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中应陪伴产妇，消除其紧张心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堵臀时应严密监护产妇和胎心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遵循操作步骤，牢记分娩机制，准确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脐部至胎头娩出不宜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估计胎头娩出有困难时，应及早决定应用产钳助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时观察宫缩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持外阴清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34920" y="3070080"/>
            <a:ext cx="8610480" cy="33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一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剖 宫 产 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剖宫产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esarean sectio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经腹壁切开子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已达成活胎儿及其附属物的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道异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骨盆狭窄或畸形，软产道阻塞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力异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收缩乏力，发生滞产经处理无效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方面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位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妊娠合并症及并发症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他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死宫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畸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孕妇暂不能承受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771280" y="404640"/>
            <a:ext cx="180036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殖道急性或亚急性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妊娠期或月经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血液病有出血倾向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物品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剖宫产手术包（内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5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锈钢盆、弯盘、卵圆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刀柄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解剖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小无齿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大无齿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8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弯血管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4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直血管钳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阿里斯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巾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持针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吸引器头、皮肤拉钩、腹腔拉钩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）、刀片、双层剖腹单、手术衣、手套、治疗巾、纱布垫、纱布均若干，可吸收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线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根，注射器和催产素，婴儿抢救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   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连续硬膜外麻醉为主，特殊情况采用局部麻醉或全身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方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下段剖宫产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体部剖宫产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膜外剖宫产术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对择期手术的产妇做好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备皮，注意操作时勿损伤皮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留置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保持室内空气清新，定时通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特殊准备工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手术患者取平卧位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改半卧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命体征的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伤口引流管的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饮食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鼓励产妇早下床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母婴同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注意观察子宫收缩及阴道流血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383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健康教育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强营养，坚持纯母乳喂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，注意观察恶露的性质，产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进行产后常规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产褥期内禁止性生活，顺产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，剖宫产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应采取避孕措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34920" y="3070080"/>
            <a:ext cx="861048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十二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人工剥离胎盘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   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人工剥离胎盘术是用手剥离，取出滞留于宫腔内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盘的手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娩出后，胎盘部分剥离引起子宫大量出血，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摩宫底或用宫缩剂等处理，胎盘不能完全排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儿娩出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胎盘仍未剥离排出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植入性胎盘，切勿强行剥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84360" y="333000"/>
            <a:ext cx="2664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窥器、活检钳、妇科棉签、标本盒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小吸管、生理盐水（备用）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5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839080" cy="19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一般不需要麻醉，可适量给予镇静剂。子宫颈内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较紧时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可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注射哌替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0mg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及阿托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5m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也可用乙醚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外阴再次消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者一手紧握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部子宫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另一手指进入子宫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插入胎盘与子宫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之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自宫腔分离胎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密观察产妇一般情况，讲明目的，并做好输液输血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配合医师尽快完整娩出胎盘、胎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格执行无菌操作规程，动作轻柔，切忌粗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密切观察子宫收缩和阴道流血情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仔细检查胎盘、胎膜是否完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注意观察有关发热、阴道分泌物异常等体征，必要时遵医嘱给予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1" lang="en-US" sz="6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宋体"/>
              </a:rPr>
              <a:t>         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宋体"/>
              </a:rPr>
              <a:t>谢谢聆听</a:t>
            </a:r>
            <a:endParaRPr b="1" lang="en-US" sz="7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844720" y="333000"/>
            <a:ext cx="223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外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活检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组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固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染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显微镜下观察分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出病理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71640" y="333360"/>
            <a:ext cx="223200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注意事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、月经期禁做，以防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应预先检查白带，确诊无阴道炎，方可行活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活检的部位可能会出血，检查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性交、阴道灌洗或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阴道镜设备的，可在阴道镜下取活检，可提高诊断的准确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230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应卧床休息，保持会阴部清洁，若出现大量出血导致贫血者，可少量多次输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少量阴道出血者，一个月内避免性生活，性生活一定要使用安全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做完检查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阴道灌洗或坐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8920" y="2781360"/>
            <a:ext cx="8610840" cy="38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三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穿 刺 检 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95640" y="333000"/>
            <a:ext cx="3528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腹腔穿刺术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穿刺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bdominocente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借助穿刺针直接从腹前壁刺入腹膜腔的一项诊疗技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确切的名称应该是腹膜腔穿刺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84360" y="333000"/>
            <a:ext cx="2376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协助诊断腹腔积液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鉴别贴近腹壁的肿物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原因不明，或疑有内出血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大量腹腔积液引起难以忍受的呼吸困难及腹胀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需腹腔内注药或腹腔积液浓缩再输入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8000" y="2781360"/>
            <a:ext cx="86104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阴道脱落细胞检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18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广泛腹膜粘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有肝性脑病先兆、包虫病及巨大卵巢囊肿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大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伴有严重电解质紊乱者禁忌大量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精神异常或不能配合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妊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23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穿刺包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利多卡因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注射器）、消毒用品、胶布、盛器、量杯、弯盘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理盐水、腹腔内注射所需药品、无菌试管数只（留取常规、生化、细菌、病理标本）、多头腹带、靠背椅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5564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经腹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引导穿刺，需膀胱充盈；经阴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引导穿刺，需排空膀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选好体位和穿刺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穿刺通常不需麻醉，精神紧张者，可行局部麻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腰椎穿刺针在选定的穿刺点垂直刺入，针头有阻力消失感时证明穿透腹膜，停止再进入，避免刺伤血管及肠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结束，拔出穿刺针，局部再次消毒，覆盖无菌纱布，压迫片刻后，用胶布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771280" y="333000"/>
            <a:ext cx="2519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明确腹腔积液的性质，找出病原，协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适量地抽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，以减轻患者腹腔内的压力，减少静脉回流阻力，改善血液循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向腹膜腔内注入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施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浓缩回输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诊断性（如腹部创伤时）或治疗性（如重症急性胰腺炎时）腹腔灌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62872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讲解相关知识，减轻患者心理压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密切观察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液不宜过快、过多。放液过程中要注意腹腔积液的颜色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患者平卧，并使穿刺孔位于上方以免腹腔积液继续漏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556000" y="333000"/>
            <a:ext cx="252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意无菌操作，以防止腹腔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液前后均应测量腹围、脉搏、血压、检查腹部体征，以观察病情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积液为血性者取得标本后，应停止抽吸或放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抽出液体应标记后送检，脓性液体应做细菌培养和药物敏感实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患者应卧床休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h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遵医嘱给予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30225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后穹隆穿刺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穹隆穿刺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uldocente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指在无菌条件下，用穿刺针经阴道后穹隆刺入盆腔，抽取直肠子宫陷凹处积存物进行肉眼观察、化验和病理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于腹腔内出血辅助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2089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疑盆腔内有液体、积血或积脓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盆腔脓肿的穿刺引流及局部注射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娩过程中，发现卵巢囊肿在盆腔嵌顿，可急行穿刺排出囊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盆腔肿块位于子宫直肠窝内，经后穹窿穿刺，以明确性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外孕破裂后，可在后穹窿抽出腹腔血液明确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2089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盆腔严重粘连、子宫直肠窝被较大肿块完全占据并已突向直肠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临床高度怀疑恶性肿瘤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2374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钳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.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碘酊棉球、后穹隆穿刺包（窥阴器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长针头、妇科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弯盘、无菌孔巾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棉球、纱布）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射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60360" y="333000"/>
            <a:ext cx="1800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定 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1341000"/>
            <a:ext cx="89838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包括阴道涂片和宫颈刮片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涂片是最简便的方法，但脱落的细胞已经陈旧，则形态上可能失真，而不易鉴别，或互相混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刮片则是应用特殊制作的刮板刮取宫颈表面的细胞，该方法所得到的细胞都比较新鲜，涂抹在玻璃片上进行染色后即可做显微镜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215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摆体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阴消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后铺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妇检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窥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暴露宫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宫颈、阴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钳钳夹宫颈后唇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前提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充分暴露阴道后穹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进行后穹窿穿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落空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立即抽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抽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m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拔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穿刺点有无活动性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08000" y="333000"/>
            <a:ext cx="5113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结果及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为不凝血液，多为盆腔内出血，需排除异位妊娠或黄体破裂等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抽出血液凝结，多为误穿入血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如为脓液或血性腹水等，应根据病情做细菌培养及药敏，查癌细胞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11280" y="333000"/>
            <a:ext cx="28814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拔针后若穿刺点及宫颈钳夹处出血，可用纱球压迫止血，必要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取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抽出液体，无论肉眼观察为何种性状，均应涂片检查，送培养及细胞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6036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羊膜腔穿刺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羊膜腔穿刺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amniocentesis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指在中晚期妊娠时，用穿刺针经腹壁、子宫壁进入羊膜腔抽取羊水得到胎儿的皮肤、胃肠道、泌尿道等的游离细胞，利用这些游离细胞进一步分析胎儿的染色体是否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1943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产前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儿成熟度的判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怀疑有母儿血型不合溶血症者，可检查羊水中胆红素、雌三醇，判断胎儿预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016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两次体温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7.5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孕妇有流产先兆时，不宜用于产前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重心、肝、肾疾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性生殖道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曾行穿刺失败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700360" y="333000"/>
            <a:ext cx="24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刺包、无菌手套、棉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52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超声探头的引导下，用穿刺针穿过腹壁、子宫肌层及羊膜进入羊膜腔，抽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羊水，以检查胎儿细胞的染色体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DN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生化成分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过程简单、穿刺前不需麻醉、不需住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6327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结果及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查出胎儿有无染色体异常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用于性连锁遗传病的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过各种酶的测定可确定胎儿有无代谢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发现有无待测基因的缺失、部分缺失或突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348000" y="333000"/>
            <a:ext cx="2016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刺前讲解相关知识，有助于患者积极配合操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生缺陷儿的产前诊断应在妊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2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进行；胎儿异常引产，宜在妊娠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6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6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引产前应做血、尿常规、出凝血时间和肝功能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每次最多试穿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次。若失败，间隔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周后可再试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穿刺术后应卧床休息数小时，有宫缩者宜给宫缩抑制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1944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癌普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雌激素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有无排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出生的婴儿应仔细检查有无刺伤痕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腔内注液或放水速度应缓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若穿刺部位为胎盘可另选穿刺点，或穿透胎盘进入羊膜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穿刺后发生流产或早产率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1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2%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格无菌技术，避免发生宫内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3060720" y="333360"/>
            <a:ext cx="295128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044720" y="2492280"/>
            <a:ext cx="8610480" cy="249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四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内 镜 检 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2951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阴道镜检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镜检查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lposcop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利用阴道镜在强光源照射下将宫颈阴道部上皮放大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倍，观察肉眼看不到的较微小病变，在可疑部位进行定位活组织检查，能提高宫颈疾病确诊率。阴道镜分为光学和电子阴道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347640" y="333000"/>
            <a:ext cx="16066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刮片细胞学检查巴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或以上，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BS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提示上皮细胞异常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接触性出血，肉眼观察宫颈无明显病变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肉眼观察宫颈可疑癌变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疑生殖道尖锐湿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可疑为阴道腺病、阴道恶性肿瘤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、阴道病变治疗后复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03640" y="333000"/>
            <a:ext cx="1800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性阴道炎、宫颈炎、急性或亚急性盆腔炎性疾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期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488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镜、弯盘、阴道窥器、宫颈活检钳、宫颈钳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卵圆钳、尖手术刀、标本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、纱布、棉球、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签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2378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排空膀胱后取膀胱截石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调整阴道镜目镜以适合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表面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醋酸溶液，观察病变表面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再涂复方碘溶液，正常鳞状上皮呈棕褐色，不典型增生和癌变上皮因糖原少而不着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不着色区域的分布，在不着色的可疑病变部位取多点活组织送病理学检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987280" y="333000"/>
            <a:ext cx="230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向受检者讲解相关知识，减轻其心理压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避免性生活、阴道冲洗或上药、宫颈的操作和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前应排除阴道炎和急性宫颈炎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禁止用涂有润滑剂的阴道窥器，以免影响检查结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的活检组织，及时送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24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宫腔镜检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镜检查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hysteroscop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应用膨宫介质扩张宫腔，通过导光玻璃纤维束和柱状透镜将冷光源经宫腔镜导入宫腔内，直视下观察宫颈管、宫颈内口、子宫内膜和输卵管开口，能够直接观察宫腔内的生理与病理变化，针对病变组织直接取材送病理，也可以在直视下进行宫腔内手术治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目前应用较为广泛的宫腔镜为电视宫腔镜。宫腔镜分硬镜和软镜，硬镜又分为直管镜和弯管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2663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异常子宫出血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孕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怀疑宫腔粘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造影异常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IUD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定位及取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反复流产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声检查有异常宫腔回声及占位性病变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60720" y="304560"/>
            <a:ext cx="216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窥器、宫颈木刮板、妇科棉签、标本盒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玻片、小吸管、生理盐水（备用）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5%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2736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黏膜下肌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内膜息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粘连分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内膜切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纵隔切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子宫腔内异物取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镜辅助下子宫内膜凝固分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5391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绝对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急性及亚急性生殖道炎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伴有严重心肺功能不全或其他严重器质性疾病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月内有子宫穿孔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51019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相对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瘢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裂伤或松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488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腔镜、阴道窥器、宫颈钳、辅料钳、卵圆钳、子宫探针、刮匙、宫颈扩张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葡萄糖液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0m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庆大霉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支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8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、地塞米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m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、小药杯、弯盘、纱球、纱布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4670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排尿后取膀胱截石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外阴、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铺无菌巾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探针了解宫腔深度和方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张宫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使镜管能够进入接通液体膨宫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排空管内气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宫腔内冲入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葡萄糖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宫腔镜按插入宫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冲洗宫腔至流出液清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宫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退出过程中检查宫颈内口和宫颈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宫腔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4670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月经干净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检查为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5246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腹腔镜检查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定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镜检查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laparoscopy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是利用腹腔镜观察盆、腹腔内脏器的形态、有无病变，必要时取活组织行病理检查，以明确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80720" y="333000"/>
            <a:ext cx="46688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怀疑子宫内膜异位症者，腹腔镜是确诊的金标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原因不明的急、慢性腹痛及盆腔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了解盆腔、腹腔肿块性质、部位或取活组织诊断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孕症患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寻找和取出异位节育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明确妇科手术后是否有子宫穿孔或腹腔脏器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绝经后持续存在直径小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cm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卵巢肿块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恶性肿瘤术后或化疗后的效果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紊乱，怀疑有多囊卵巢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452592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重心、肺疾病或膈疝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盆腔肿块过大，超过脐水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凝血系统功能障碍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弥漫性腹膜炎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怀疑腹腔内广泛粘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脐部周围有感染病灶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过度肥胖或过度消瘦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绞窄性肠梗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妊娠超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6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8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镜、阴道窥器、宫颈钳、辅料钳、卵圆钳、子宫探针、细齿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、刀柄、组织镊、持针器、小药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个、缝线、缝针、刀片、棉球、棉签、纱布、内镜、二氧化碳气体，举宫器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射器、局麻药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237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标本采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阴道涂片   未孕妇女主要了解卵巢功能，孕妇主要了解胎盘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刮片     筛查早期宫颈癌的重要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颈管涂片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涂片时用薄层液基细胞学制片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染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巴氏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Papanicolao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染色法，既可用以检查雌激素水平又可寻找癌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454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610480" cy="512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平卧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腹部皮肤及外阴、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导尿管和举宫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气腹针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穿刺进入腹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流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L/min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速度进入二氧化碳气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充气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L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调整患者体位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压力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2mmHg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停止充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拔去气腹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置腹腔镜并观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冲洗盆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无出血、无内脏损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停止充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尽气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腹腔镜及各穿刺点的套管针鞘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穿刺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844360" y="333000"/>
            <a:ext cx="215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患者讲解相关知识，做好心理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检查与一般妇科腹部手术相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部皮肤准备时尤其注意脐孔的清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应留置导尿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时患者取头低臀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5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4815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配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协助医师将患者摆好体位，根据需要变换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与患者交谈，分散注意力，指导患者与手术者合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密切观察患者的生命体征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886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护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遵医嘱拔除导尿管，观察生命体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患者卧床休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0min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以上，加强宣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观察穿刺口有无渗血及红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鼓励患者尽早下床活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止性生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按医嘱给予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68360" y="256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五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输卵管通畅检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340000" y="333000"/>
            <a:ext cx="2028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通畅检查是检查输卵管是否通畅的方法，一般经阴道与宫颈消毒后，选用特定的医疗器械经宫颈把液体、空气或药物注入子宫内，以测定输卵管是否通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203280" y="333000"/>
            <a:ext cx="17398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原发性或继发性不孕，疑有输卵管阻塞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造口术或粘连分离术后，检查手术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结扎、堵塞等绝育术后，检查手术效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输卵管再通术后，检查手术效果，防止吻合口粘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治疗轻度输卵管阻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844360" y="333360"/>
            <a:ext cx="1871640" cy="565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殖器官急性炎症或慢性炎症急性发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期或不规则阴道流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体温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7.5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419640" y="333000"/>
            <a:ext cx="2016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输卵管通气术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输卵管通色素液术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输卵管通液术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腹腔镜检查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声声学造影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987640" y="333000"/>
            <a:ext cx="223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月经干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日进行检查为宜，术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日禁止性生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前讲解相关知识，消除其紧张恐惧心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行输卵管造影术前，询问其过敏史，做碘过敏试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便秘者应行清洁灌肠，以保持子宫正常位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63640" y="333000"/>
            <a:ext cx="5462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检查结果及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一）巴氏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分类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正常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 炎症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 可疑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高度可疑癌 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级   癌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（二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BS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类法及其描述性诊断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良性细胞学改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鳞状上皮细胞异常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腺上皮细胞改变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其他恶性肿瘤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635280" y="304560"/>
            <a:ext cx="216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时所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9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理盐水溶液应加温至接近体温，以免引起输卵管痉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宫颈导管必须紧贴宫颈外口，以免液体外漏。推注液体时速度不可过快，防止输卵管受损伤。注意观察受检者反应，发现异常立即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周内禁止性生活及盆浴。按医嘱应用抗生素预防感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99640" y="2637000"/>
            <a:ext cx="8610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六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诊断性刮宫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00000" y="333000"/>
            <a:ext cx="1584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诊断性刮宫简称诊刮，其目的是刮取宫腔内容物做病理检查协助诊断，如果怀疑有宫颈病变时，需要对宫颈管及宫腔分步进行，称为分段诊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76360" y="333000"/>
            <a:ext cx="1873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判断月经失调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检查不孕症的原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异常的子宫出血，高度怀疑恶性病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了解有无宫腔粘连及宫腔形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不规则阴道出血或大量出血，并且同时需要全面刮宫以达到止血目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771640" y="333000"/>
            <a:ext cx="21607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生殖道急性、亚急性炎症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贫血严重者术前应先改善贫血状况后再施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492000" y="333000"/>
            <a:ext cx="23050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于月经周期中期后择时施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出血时间较长者术前、后给予抗生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276360" y="333000"/>
            <a:ext cx="215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中注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毒宫颈后，先刮宫颈管，切勿过深入宫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张宫颈，刮子宫内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当刮出物已高度怀疑为癌组织时，不应继续刮宫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操作中注意宫颈、宫腔有否不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标本均分别置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乙醇中固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2448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临床意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子宫异常出血，证实或排除子宫内膜癌、宫颈管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月经失调，了解子宫内膜变化及其对性激素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孕症，了解有无排卵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疑有子宫内膜结核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不仅起诊断作用，还起治疗作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842920" y="333000"/>
            <a:ext cx="2808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人工流产术后要在医院内休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～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6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要注意保暖，盛夏时节不可过于吹空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超过两周血仍未净或期间血量超过月经量者，请立即到医院就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数小时或数日后出现腹痛剧烈、阴道出血有较多血块，伴高热，请即到医院就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要保持会阴部清洁干燥。切勿用手掏洗阴道或擅自用任何药物洗剂冲洗阴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56000" y="333000"/>
            <a:ext cx="25430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向受检者讲解相关知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受检者于检查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日内禁止性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协助患者摆好体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标本时，动作应轻、稳、准，以免损伤组织，引起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涂片应均匀，禁忌来回涂抹，以免破坏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394920" y="2852280"/>
            <a:ext cx="8612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七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会阴切开缝合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16000" y="333000"/>
            <a:ext cx="15145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会阴切开缝合术是产科最常用的手术。阴道分娩时，为了避免会阴严重裂伤，减少会阴阻力，以利于胎儿娩出，缩短第二产程，预防晚期盆底松弛综合征，多行会阴切开术，以初产妇为多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3949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估计会阴裂伤不可避免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初产妇阴道助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第二产程过长、宫缩乏力、胎儿宫内窘迫、产妇妊高征、合并心脏病等须缩短产程者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巨大儿、早产儿，须预防颅内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用物准备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器械（无菌）　会阴切开剪或钝头直剪刀、注射器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9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号长针头、止血钳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把）、有齿镊、持针器、缝合针（三角阵、圆针各一）、缝线（丝线及肠线）、带尾纱布、夹纱、小孔巾、棉球、手套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药物　麻醉剂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0.5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普鲁卡因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利多卡因）、注射用生理盐水、消毒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310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麻醉方式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通常采用阴部神经阻滞麻醉（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-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及局部皮下浸润麻醉（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-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6" name="Picture 4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2978280" cy="300528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5"/>
          <p:cNvSpPr/>
          <p:nvPr/>
        </p:nvSpPr>
        <p:spPr>
          <a:xfrm>
            <a:off x="1545480" y="58770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图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22-1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阴部神经阻滞麻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68" name="Picture 6" descr=""/>
          <p:cNvPicPr/>
          <p:nvPr/>
        </p:nvPicPr>
        <p:blipFill>
          <a:blip r:embed="rId2"/>
          <a:stretch/>
        </p:blipFill>
        <p:spPr>
          <a:xfrm>
            <a:off x="5148360" y="2492280"/>
            <a:ext cx="3151080" cy="3097440"/>
          </a:xfrm>
          <a:prstGeom prst="rect">
            <a:avLst/>
          </a:prstGeom>
          <a:ln w="0">
            <a:noFill/>
          </a:ln>
        </p:spPr>
      </p:pic>
      <p:sp>
        <p:nvSpPr>
          <p:cNvPr id="269" name="Text Box 7"/>
          <p:cNvSpPr/>
          <p:nvPr/>
        </p:nvSpPr>
        <p:spPr>
          <a:xfrm>
            <a:off x="5938200" y="587700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2-2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局部皮下浸润麻醉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流程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会阴斜侧切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   术者以左手中、示指伸入阴道内，撑起左侧阴道壁，右手持会阴切开剪刀或钝头直剪刀，一叶置于阴道内，另叶置于阴道外，使剪刀切线与会阴后联合中线向旁侧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5°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放好，于宫缩时剪开会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cm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4021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注意事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时间应在预计胎儿娩出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mi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剪刀应与皮肤垂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会阴高度膨隆，斜切角度宜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0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左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如为手术助产则应在导尿术前准备就绪后切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后应立即用纱布压迫止血，如有小动脉出血应钳夹结扎止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   缝合前应在胎盘、胎膜完全娩出后，先检查其他部分有无裂伤，再以有带纱布塞入阴道内，以免宫腔血液流出影响手术。术毕取出，按阴道黏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肌层（肛提肌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皮下及皮肤组织层依次缝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会阴正中切开缝合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切开   局部浸润麻醉后，沿会阴联合正中点向肛门方向垂直切开，长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c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，注意不要损伤肛门括约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   术毕缝合阴道黏膜、皮下脂肪及皮肤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缝合后处理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出阴道内塞纱，仔细检查缝合处有无出血或血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838080" y="304920"/>
            <a:ext cx="41673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流程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护理要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保持外阴清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外阴伤口处水肿、疼痛明显者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湿敷或冷敷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4h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后可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%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硫酸镁纱布湿热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术后每日查看切口，及时发现感染并处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8920" y="2781000"/>
            <a:ext cx="861084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二节 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宫颈活体组织检查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828720" y="263700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八节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胎头吸引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4167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定义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头吸引术是将吸引器外口置于露出的胎头上，再用注射器将吸引器内空气吸出，形成负压区，利用负压吸引原理，吸住胎头，配合宫缩，娩出胎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见的胎头吸引器有金属杯状胎头吸引器、硅胶喇叭形胎头吸引器和金属牛角形胎头吸引器（图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2-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-35280" y="1371240"/>
            <a:ext cx="9288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图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宋体"/>
              </a:rPr>
              <a:t>22-3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  <a:ea typeface="宋体"/>
              </a:rPr>
              <a:t>胎头吸引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直径空筒胎头吸引器；（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牛角形空筒胎头吸引器；（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宋体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  <a:ea typeface="宋体"/>
              </a:rPr>
              <a:t>）金属扁圆形胎头吸引器</a:t>
            </a:r>
            <a:endParaRPr b="1" lang="en-US" sz="1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3" name="Picture 3" descr=""/>
          <p:cNvPicPr/>
          <p:nvPr/>
        </p:nvPicPr>
        <p:blipFill>
          <a:blip r:embed="rId1"/>
          <a:stretch/>
        </p:blipFill>
        <p:spPr>
          <a:xfrm>
            <a:off x="1260360" y="1341360"/>
            <a:ext cx="6048360" cy="31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适应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无明显头盆不称，无骨产道和软产道畸形、狭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宫口已开全或经产妇宫口近开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已破膜或人工破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顶先露（双顶径须达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+2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或以下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有效宫缩或静脉滴注或小剂量穴位注射催产素促进宫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167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禁忌证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骨盆狭窄或头盆不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颜面位、额位、高直位，或其他异常胎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严重胎儿窘迫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危害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宫颈和阴道壁损伤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颅骨骨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头皮损伤、水肿或血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新生儿颅内出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423864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用物准备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胎头吸引器、电动吸引机、止血钳、石蜡油、会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切开缝合包、新生儿急救药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操作方法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术前准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患者取膀胱截石卧位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消毒外阴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导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检查宫颈口开大情况及儿头位置的高低及方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手术步骤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91540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将吸引器缓慢送入阴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紧贴儿头颅顶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0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～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00ml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注射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分数次从橡皮管抽出空气共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0m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夹紧橡皮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牢附于儿头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听胎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阵缩时缓缓牵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在儿头双顶间径平面娩出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松开止血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消除负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取下吸筒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用手助儿头娩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40942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注意事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胎头吸引可造成胎儿头皮水肿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负压不宜过大，或吸引时间过长、吸筒吸附位置不当，可产生头皮水疱、脱皮或头皮血肿，须较长时间才能消退、愈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严重时，胎吸可造成胎儿颅内出血，应加以预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5-11-12T07:20:51Z</dcterms:modified>
  <cp:revision>5</cp:revision>
  <dc:subject/>
  <dc:title>第二十二章 妇产科诊疗    及手术患者的护理</dc:title>
</cp:coreProperties>
</file>